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701F-ED63-4D6A-9DB1-9528482D3C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B9C5-3FDC-4493-9510-EC7E7CC886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12F-C096-4490-B7E1-7952B601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F53-F983-4628-BD18-DC0EAED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DBF-4DF8-491E-9145-42D93B0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072-5C34-4C83-8669-4124B9AB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3633-541A-46F4-9E9C-4DC0611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6CEE-ACF2-49B5-9D1F-D9E978B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ADF4-917E-4EA0-9BB1-7E4C2230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E6BA-941B-42DA-8EE0-906CC157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E519-D517-4C76-B659-442D8B5A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85E-B392-4BAA-8079-4D3D8A9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723-7ACA-42F8-B3D3-47C86C1A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6E7-33DD-4CD2-8A4A-C5E119C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CEFB-B007-46A4-A798-4EDFE549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2920-3D71-4F77-B549-DD672EA6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3EE8-85C7-47A9-8F62-E56B0DA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6472-002B-4530-AD9B-583CD940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13D-03BF-474D-9470-188E55C8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82AE-4B00-4C8C-B79F-955A235F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22E6-9249-45C0-912B-2F7757DD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5029E-4FFD-41E9-BF81-072BC1AB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E08F-6727-4DAA-97FC-F73E4A02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9590-AF4E-4DEB-A21A-B6C75E5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E9A-8F32-43FF-B580-57770B5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34B3-20AF-4AD9-99BA-63C1B3B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96739-B843-400D-88CB-C78C28DA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5F70-B746-4E54-8FCD-0CE3DF37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5C1CB-80AB-4785-A2BB-D7CCD2C7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BCF7-763F-40EB-817F-3B5DC580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0208-04DE-41A7-815E-5CAE698B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C969-1A68-48C1-BCF1-AD8EA242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9F27-44D7-4144-B4F8-F392FB24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2F84D-F38E-4073-92D2-32D926F5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0EEF-41B2-40EA-AAE2-17B3695A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594-E89F-49A0-A42F-F19BEDE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A58C-3DEC-4E84-8AD5-1195D2F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BF83B-61F2-4F33-B9DC-C86A78EB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B78A-51BB-4BF7-AD33-BF2FF62A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CC857-4443-4715-A16A-D7E14014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17D2-3CDF-4308-BB10-87BF3D3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72C7-7450-463D-BD39-97E1411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A55C-E062-493C-AE0A-D69A6E1E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B4D6A-0D0F-4D14-AD6F-D07BF705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EB2FD-DD17-4022-B3BA-11305CC8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56A-3B4B-4CA0-9115-3AABE3DF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E36A-99E2-4060-90D6-C9E60FA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95C-563A-4BBE-8794-7814084D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74C-E768-4837-A835-4FF64A9D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96B-5FF5-4B14-8496-F441DA3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2F16-A18C-4278-B418-C2BEC877531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65CE-10F7-48FC-A471-93914ED0810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6 Rectángulo"/>
          <p:cNvSpPr/>
          <p:nvPr/>
        </p:nvSpPr>
        <p:spPr>
          <a:xfrm>
            <a:off x="905040" y="2565360"/>
            <a:ext cx="7315200" cy="1279440"/>
          </a:xfrm>
          <a:prstGeom prst="rect">
            <a:avLst/>
          </a:prstGeom>
          <a:noFill/>
          <a:ln cap="rnd" w="64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7 Rectángulo"/>
          <p:cNvSpPr/>
          <p:nvPr/>
        </p:nvSpPr>
        <p:spPr>
          <a:xfrm>
            <a:off x="914400" y="3965400"/>
            <a:ext cx="7315200" cy="685800"/>
          </a:xfrm>
          <a:prstGeom prst="rect">
            <a:avLst/>
          </a:prstGeom>
          <a:noFill/>
          <a:ln cap="rnd" w="6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8 Rectángulo"/>
          <p:cNvSpPr/>
          <p:nvPr/>
        </p:nvSpPr>
        <p:spPr>
          <a:xfrm>
            <a:off x="905040" y="2565360"/>
            <a:ext cx="228600" cy="1279440"/>
          </a:xfrm>
          <a:prstGeom prst="rect">
            <a:avLst/>
          </a:prstGeom>
          <a:solidFill>
            <a:srgbClr val="4f6228"/>
          </a:solidFill>
          <a:ln cap="rnd" w="64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9 Rectángulo"/>
          <p:cNvSpPr/>
          <p:nvPr/>
        </p:nvSpPr>
        <p:spPr>
          <a:xfrm>
            <a:off x="914400" y="3965400"/>
            <a:ext cx="228600" cy="685800"/>
          </a:xfrm>
          <a:prstGeom prst="rect">
            <a:avLst/>
          </a:prstGeom>
          <a:solidFill>
            <a:srgbClr val="996600"/>
          </a:solidFill>
          <a:ln cap="rnd" w="6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798-395F-4703-93B3-94D2B42460D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0" y="1214280"/>
            <a:ext cx="5143680" cy="0"/>
          </a:xfrm>
          <a:prstGeom prst="line">
            <a:avLst/>
          </a:prstGeom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5929200" y="6215040"/>
            <a:ext cx="1214640" cy="571680"/>
          </a:xfrm>
          <a:prstGeom prst="rect">
            <a:avLst/>
          </a:prstGeom>
          <a:ln w="0">
            <a:noFill/>
          </a:ln>
        </p:spPr>
      </p:pic>
      <p:sp>
        <p:nvSpPr>
          <p:cNvPr id="129" name="9 Conector recto"/>
          <p:cNvSpPr/>
          <p:nvPr/>
        </p:nvSpPr>
        <p:spPr>
          <a:xfrm>
            <a:off x="428760" y="6072120"/>
            <a:ext cx="8286480" cy="0"/>
          </a:xfrm>
          <a:prstGeom prst="line">
            <a:avLst/>
          </a:prstGeom>
          <a:ln w="1260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7291440" y="6157800"/>
            <a:ext cx="1495440" cy="628920"/>
          </a:xfrm>
          <a:prstGeom prst="rect">
            <a:avLst/>
          </a:prstGeom>
          <a:ln w="0">
            <a:noFill/>
          </a:ln>
        </p:spPr>
      </p:pic>
      <p:sp>
        <p:nvSpPr>
          <p:cNvPr id="131" name="11 CuadroTexto"/>
          <p:cNvSpPr/>
          <p:nvPr/>
        </p:nvSpPr>
        <p:spPr>
          <a:xfrm>
            <a:off x="357120" y="61437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ALL2010 conference – Patras, November 4-5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43A3-8F9F-40A0-9F38-0611CA65CE8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2492280"/>
            <a:ext cx="698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Collaborative storytelling with Wiki: </a:t>
            </a:r>
            <a:br>
              <a:rPr sz="3200"/>
            </a:b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a case study in Spanish rural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D:\Foxy\SoRurall\WP7 - Dissemination\Logo LLP.png"/>
          <p:cNvPicPr/>
          <p:nvPr/>
        </p:nvPicPr>
        <p:blipFill>
          <a:blip r:embed="rId1"/>
          <a:stretch/>
        </p:blipFill>
        <p:spPr>
          <a:xfrm>
            <a:off x="214200" y="214200"/>
            <a:ext cx="2224080" cy="901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www.ddgi.cat/iec/CCIIAAPP/logos/UB_bas.jpg"/>
          <p:cNvPicPr/>
          <p:nvPr/>
        </p:nvPicPr>
        <p:blipFill>
          <a:blip r:embed="rId2"/>
          <a:stretch/>
        </p:blipFill>
        <p:spPr>
          <a:xfrm>
            <a:off x="6143760" y="214200"/>
            <a:ext cx="2857320" cy="974880"/>
          </a:xfrm>
          <a:prstGeom prst="rect">
            <a:avLst/>
          </a:prstGeom>
          <a:ln w="0">
            <a:noFill/>
          </a:ln>
        </p:spPr>
      </p:pic>
      <p:sp>
        <p:nvSpPr>
          <p:cNvPr id="183" name="7 CuadroTexto"/>
          <p:cNvSpPr/>
          <p:nvPr/>
        </p:nvSpPr>
        <p:spPr>
          <a:xfrm>
            <a:off x="1160640" y="4078440"/>
            <a:ext cx="69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. Frossard, A. Trifonova, X. Geis, M. Moyà I Altisent, M. Baraj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3276720" y="189000"/>
            <a:ext cx="2208240" cy="928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thaleia.westgate.gr/sall2010/images/sorurall_conf_banner.jpg"/>
          <p:cNvPicPr/>
          <p:nvPr/>
        </p:nvPicPr>
        <p:blipFill>
          <a:blip r:embed="rId4"/>
          <a:stretch/>
        </p:blipFill>
        <p:spPr>
          <a:xfrm>
            <a:off x="0" y="5238720"/>
            <a:ext cx="9144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5676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dventures of Laia and Oscar”: A consistent multi-ending nar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 Wiki pages, including 14 possible en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rcRect l="7718" t="13313" r="23829" b="40675"/>
          <a:stretch/>
        </p:blipFill>
        <p:spPr>
          <a:xfrm>
            <a:off x="3635280" y="2795760"/>
            <a:ext cx="5329440" cy="2865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Imagen 2" descr=""/>
          <p:cNvPicPr/>
          <p:nvPr/>
        </p:nvPicPr>
        <p:blipFill>
          <a:blip r:embed="rId2"/>
          <a:srcRect l="14064" t="7323" r="31125" b="25294"/>
          <a:stretch/>
        </p:blipFill>
        <p:spPr>
          <a:xfrm>
            <a:off x="268200" y="2708280"/>
            <a:ext cx="3151440" cy="31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57120" y="2997000"/>
            <a:ext cx="8391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k to a video showing a collaborative writing session in Prats sch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aisy.cti.gr/sorurall/drupal/node/25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14760" y="142560"/>
            <a:ext cx="60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LLABORATIVE STORYTELLING THROUGH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EVALU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56760" y="1557360"/>
            <a:ext cx="8215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servation sessions in the schools and interviews with the tea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Familiarization with 2.0 technologie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of 2.0 tools (wiki, Youtube) in learning settings / discover new ways of their possible utilizations (e.g. achievement of a common proje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Collaboration skil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s adapted their discourse, language and narrative to the other school’s stud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Language learning and narrative skil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nish, reading, writing and imagin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6228"/>
                </a:solidFill>
                <a:latin typeface="Calibri"/>
              </a:rPr>
              <a:t>Motivation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’s awareness of the fact that the story would be read by external audi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" y="2072880"/>
            <a:ext cx="82155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enario has enabled to match the main needs and interests of rural sch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enabled to develop innovative activities with creative content, in which schools collaborated to reach comm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0 technologies, adapted to specific settings, enable to teach / learn content in a contextualized w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2 Marcador de contenido"/>
          <p:cNvSpPr/>
          <p:nvPr/>
        </p:nvSpPr>
        <p:spPr>
          <a:xfrm>
            <a:off x="324000" y="4449600"/>
            <a:ext cx="821520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A positive approach for integrating innovative tools in learning activities adapted to the specific characteristics of Spanish rural schools, thus contributing to including rural education within the actual Informatio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14760" y="35676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f6228"/>
                </a:solidFill>
                <a:latin typeface="Calibri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6"/>
          <p:cNvGraphicFramePr/>
          <p:nvPr/>
        </p:nvGraphicFramePr>
        <p:xfrm>
          <a:off x="468360" y="1430280"/>
          <a:ext cx="8207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30280"/>
                    <a:ext cx="8207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6 CuadroTexto"/>
          <p:cNvSpPr/>
          <p:nvPr/>
        </p:nvSpPr>
        <p:spPr>
          <a:xfrm>
            <a:off x="500040" y="3676680"/>
            <a:ext cx="500076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www.futurelearning.or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rio Barajas: mbarajas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Frédérique Frossard: frederique.frossard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Anna Trifonova: trifonova@ub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Xavi Geis: xgeis@xtec.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iquel Moyà i Altisent: mmoya@xtec.c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www.sorurall.eu/final_logo.png"/>
          <p:cNvPicPr/>
          <p:nvPr/>
        </p:nvPicPr>
        <p:blipFill>
          <a:blip r:embed="rId3"/>
          <a:stretch/>
        </p:blipFill>
        <p:spPr>
          <a:xfrm>
            <a:off x="6786720" y="3708360"/>
            <a:ext cx="1904760" cy="800280"/>
          </a:xfrm>
          <a:prstGeom prst="rect">
            <a:avLst/>
          </a:prstGeom>
          <a:ln w="0">
            <a:noFill/>
          </a:ln>
        </p:spPr>
      </p:pic>
      <p:sp>
        <p:nvSpPr>
          <p:cNvPr id="274" name="8 Rectángulo"/>
          <p:cNvSpPr/>
          <p:nvPr/>
        </p:nvSpPr>
        <p:spPr>
          <a:xfrm>
            <a:off x="357120" y="5784840"/>
            <a:ext cx="82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s research was partially funded by the European Commi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0 CuadroTexto"/>
          <p:cNvSpPr/>
          <p:nvPr/>
        </p:nvSpPr>
        <p:spPr>
          <a:xfrm>
            <a:off x="6786720" y="442908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www.sorurall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760" y="1928520"/>
            <a:ext cx="8215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eeds of Spanish rural school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Web 2.0 Storytelling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Implementation of the scen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Evaluation of the scenari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86120" y="1856880"/>
            <a:ext cx="66578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ral schools / teach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al distance and isolation from other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iculties in sharing projects and co-create knowledge with pe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8" descr="http://futurelearning.org/ruralwings/images/rw-pictures/escuela-rural2.jpg"/>
          <p:cNvPicPr/>
          <p:nvPr/>
        </p:nvPicPr>
        <p:blipFill>
          <a:blip r:embed="rId1"/>
          <a:stretch/>
        </p:blipFill>
        <p:spPr>
          <a:xfrm>
            <a:off x="571680" y="2071800"/>
            <a:ext cx="1333440" cy="1123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2016360" cy="1498680"/>
          </a:xfrm>
          <a:prstGeom prst="rect">
            <a:avLst/>
          </a:prstGeom>
          <a:ln w="0">
            <a:noFill/>
          </a:ln>
        </p:spPr>
      </p:pic>
      <p:sp>
        <p:nvSpPr>
          <p:cNvPr id="192" name="10 CuadroTexto"/>
          <p:cNvSpPr/>
          <p:nvPr/>
        </p:nvSpPr>
        <p:spPr>
          <a:xfrm>
            <a:off x="2462040" y="4795920"/>
            <a:ext cx="7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1 CuadroTexto"/>
          <p:cNvSpPr/>
          <p:nvPr/>
        </p:nvSpPr>
        <p:spPr>
          <a:xfrm>
            <a:off x="4176720" y="472428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w opportunities for bridging the gap between rural / urban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2 Flecha derecha"/>
          <p:cNvSpPr/>
          <p:nvPr/>
        </p:nvSpPr>
        <p:spPr>
          <a:xfrm>
            <a:off x="3247920" y="4867200"/>
            <a:ext cx="85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28760" y="1341000"/>
            <a:ext cx="82468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SoRuraLL project in Sp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 multigrade schools, with students aged between 3 and 12, have been conducting common educational activities enhanced by social networking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rcRect l="0" t="8288" r="0" b="10897"/>
          <a:stretch/>
        </p:blipFill>
        <p:spPr>
          <a:xfrm>
            <a:off x="2916360" y="2563920"/>
            <a:ext cx="4011480" cy="2665440"/>
          </a:xfrm>
          <a:prstGeom prst="rect">
            <a:avLst/>
          </a:prstGeom>
          <a:ln w="0">
            <a:noFill/>
          </a:ln>
        </p:spPr>
      </p:pic>
      <p:sp>
        <p:nvSpPr>
          <p:cNvPr id="198" name="2 Marcador de contenido"/>
          <p:cNvSpPr/>
          <p:nvPr/>
        </p:nvSpPr>
        <p:spPr>
          <a:xfrm>
            <a:off x="144360" y="5373720"/>
            <a:ext cx="882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mong other scenarios, schools co-designed a </a:t>
            </a: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hypermedia stor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f the “choose your own adventure” type, by using the </a:t>
            </a:r>
            <a:r>
              <a:rPr b="1" lang="en-US" sz="1800" spc="-1" strike="noStrike">
                <a:solidFill>
                  <a:srgbClr val="4f6228"/>
                </a:solidFill>
                <a:latin typeface="Calibri"/>
              </a:rPr>
              <a:t>Wiki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pplication of the SoRuraLL Virtual Learning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2600" algn="ctr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rcRect l="20317" t="38091" r="48940" b="21875"/>
          <a:stretch/>
        </p:blipFill>
        <p:spPr>
          <a:xfrm>
            <a:off x="6948360" y="2637000"/>
            <a:ext cx="1871640" cy="136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11" descr=""/>
          <p:cNvPicPr/>
          <p:nvPr/>
        </p:nvPicPr>
        <p:blipFill>
          <a:blip r:embed="rId3"/>
          <a:stretch/>
        </p:blipFill>
        <p:spPr>
          <a:xfrm>
            <a:off x="6588000" y="4005360"/>
            <a:ext cx="1548000" cy="116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1" name="Picture 2" descr="http://lh5.ggpht.com/_YluJpdRw2Yo/S5kbecOO8-I/AAAAAAAAAIo/xrxNKTxDoFM/s640/DSC09262.JPG"/>
          <p:cNvPicPr/>
          <p:nvPr/>
        </p:nvPicPr>
        <p:blipFill>
          <a:blip r:embed="rId4"/>
          <a:stretch/>
        </p:blipFill>
        <p:spPr>
          <a:xfrm>
            <a:off x="1855800" y="3859200"/>
            <a:ext cx="1636560" cy="122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Picture 1" descr=""/>
          <p:cNvPicPr/>
          <p:nvPr/>
        </p:nvPicPr>
        <p:blipFill>
          <a:blip r:embed="rId5"/>
          <a:srcRect l="26011" t="30517" r="43550" b="29503"/>
          <a:stretch/>
        </p:blipFill>
        <p:spPr>
          <a:xfrm>
            <a:off x="684360" y="2492280"/>
            <a:ext cx="1912680" cy="141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5594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NEEDS OF SPANISH RURAL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26 Grupo"/>
          <p:cNvGrpSpPr/>
          <p:nvPr/>
        </p:nvGrpSpPr>
        <p:grpSpPr>
          <a:xfrm>
            <a:off x="4140360" y="2011320"/>
            <a:ext cx="4608360" cy="703800"/>
            <a:chOff x="4140360" y="2011320"/>
            <a:chExt cx="4608360" cy="703800"/>
          </a:xfrm>
        </p:grpSpPr>
        <p:sp>
          <p:nvSpPr>
            <p:cNvPr id="205" name="47 CuadroTexto"/>
            <p:cNvSpPr/>
            <p:nvPr/>
          </p:nvSpPr>
          <p:spPr>
            <a:xfrm>
              <a:off x="5040720" y="2011320"/>
              <a:ext cx="37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Calibri"/>
                </a:rPr>
                <a:t>COLLABORATIVE STORYTELLING WITH WIK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24 Flecha derecha"/>
            <p:cNvSpPr/>
            <p:nvPr/>
          </p:nvSpPr>
          <p:spPr>
            <a:xfrm>
              <a:off x="4140360" y="2132640"/>
              <a:ext cx="857160" cy="4287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d9d9d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46 Grupo"/>
          <p:cNvGrpSpPr/>
          <p:nvPr/>
        </p:nvGrpSpPr>
        <p:grpSpPr>
          <a:xfrm>
            <a:off x="4572000" y="3017880"/>
            <a:ext cx="4321080" cy="2065680"/>
            <a:chOff x="4572000" y="3017880"/>
            <a:chExt cx="4321080" cy="2065680"/>
          </a:xfrm>
        </p:grpSpPr>
        <p:sp>
          <p:nvSpPr>
            <p:cNvPr id="208" name="31 CuadroTexto"/>
            <p:cNvSpPr/>
            <p:nvPr/>
          </p:nvSpPr>
          <p:spPr>
            <a:xfrm>
              <a:off x="4572000" y="3017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eaningful context to share educational 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27 CuadroTexto"/>
            <p:cNvSpPr/>
            <p:nvPr/>
          </p:nvSpPr>
          <p:spPr>
            <a:xfrm>
              <a:off x="4572000" y="3449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scover a new tool for pedagogical purpo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29 CuadroTexto"/>
            <p:cNvSpPr/>
            <p:nvPr/>
          </p:nvSpPr>
          <p:spPr>
            <a:xfrm>
              <a:off x="4572000" y="388188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pportunity to practice Spani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32 CuadroTexto"/>
            <p:cNvSpPr/>
            <p:nvPr/>
          </p:nvSpPr>
          <p:spPr>
            <a:xfrm>
              <a:off x="4572000" y="431424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ublic story (on the SoRuraLL VLW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40 CuadroTexto"/>
            <p:cNvSpPr/>
            <p:nvPr/>
          </p:nvSpPr>
          <p:spPr>
            <a:xfrm>
              <a:off x="4572000" y="4746240"/>
              <a:ext cx="4321080" cy="33732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Different schools interact to achieve specific go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42 Grupo"/>
          <p:cNvGrpSpPr/>
          <p:nvPr/>
        </p:nvGrpSpPr>
        <p:grpSpPr>
          <a:xfrm>
            <a:off x="179280" y="2011320"/>
            <a:ext cx="4392720" cy="3072240"/>
            <a:chOff x="179280" y="2011320"/>
            <a:chExt cx="4392720" cy="3072240"/>
          </a:xfrm>
        </p:grpSpPr>
        <p:sp>
          <p:nvSpPr>
            <p:cNvPr id="214" name="8 CuadroTexto"/>
            <p:cNvSpPr/>
            <p:nvPr/>
          </p:nvSpPr>
          <p:spPr>
            <a:xfrm>
              <a:off x="179280" y="3018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ommunication with other rural comm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61 CuadroTexto"/>
            <p:cNvSpPr/>
            <p:nvPr/>
          </p:nvSpPr>
          <p:spPr>
            <a:xfrm>
              <a:off x="647640" y="2011320"/>
              <a:ext cx="32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Calibri"/>
                </a:rPr>
                <a:t>INTERESTS AND NEEDS OF SPANISH RURAL SCH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28 CuadroTexto"/>
            <p:cNvSpPr/>
            <p:nvPr/>
          </p:nvSpPr>
          <p:spPr>
            <a:xfrm>
              <a:off x="179280" y="3450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upport and guidance to the use of ICT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30 CuadroTexto"/>
            <p:cNvSpPr/>
            <p:nvPr/>
          </p:nvSpPr>
          <p:spPr>
            <a:xfrm>
              <a:off x="179280" y="3882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Language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35 CuadroTexto"/>
            <p:cNvSpPr/>
            <p:nvPr/>
          </p:nvSpPr>
          <p:spPr>
            <a:xfrm>
              <a:off x="179280" y="4314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Better visibility of rural sch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41 CuadroTexto"/>
            <p:cNvSpPr/>
            <p:nvPr/>
          </p:nvSpPr>
          <p:spPr>
            <a:xfrm>
              <a:off x="179280" y="4746240"/>
              <a:ext cx="4392720" cy="337320"/>
            </a:xfrm>
            <a:prstGeom prst="rect">
              <a:avLst/>
            </a:prstGeom>
            <a:solidFill>
              <a:srgbClr val="4f6228"/>
            </a:solidFill>
            <a:ln w="93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Common goal-driven educational scen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63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WEB 2.0 STORY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4508640"/>
            <a:ext cx="821520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story has a beginning, a middle, and a cleanly wrapped-up ending. (…). Today, with digital networks and social media, this pattern is changing. Stories now are open-ended, branching, hyperlinked, cross-media, participatory, exploratory, and unpredictable”. (Alexander and Levine, 200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lnSpc>
                <a:spcPct val="11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14 Grupo"/>
          <p:cNvGrpSpPr/>
          <p:nvPr/>
        </p:nvGrpSpPr>
        <p:grpSpPr>
          <a:xfrm>
            <a:off x="2340000" y="1643040"/>
            <a:ext cx="4057560" cy="471600"/>
            <a:chOff x="2340000" y="1643040"/>
            <a:chExt cx="4057560" cy="471600"/>
          </a:xfrm>
        </p:grpSpPr>
        <p:sp>
          <p:nvSpPr>
            <p:cNvPr id="223" name="31 Rectángulo"/>
            <p:cNvSpPr/>
            <p:nvPr/>
          </p:nvSpPr>
          <p:spPr>
            <a:xfrm>
              <a:off x="2340000" y="1643040"/>
              <a:ext cx="4057560" cy="4716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10 CuadroTexto"/>
            <p:cNvSpPr/>
            <p:nvPr/>
          </p:nvSpPr>
          <p:spPr>
            <a:xfrm>
              <a:off x="2340000" y="1714320"/>
              <a:ext cx="405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toryte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15 Grupo"/>
          <p:cNvGrpSpPr/>
          <p:nvPr/>
        </p:nvGrpSpPr>
        <p:grpSpPr>
          <a:xfrm>
            <a:off x="2340000" y="2286000"/>
            <a:ext cx="4057560" cy="471600"/>
            <a:chOff x="2340000" y="2286000"/>
            <a:chExt cx="4057560" cy="471600"/>
          </a:xfrm>
        </p:grpSpPr>
        <p:sp>
          <p:nvSpPr>
            <p:cNvPr id="226" name="31 Rectángulo"/>
            <p:cNvSpPr/>
            <p:nvPr/>
          </p:nvSpPr>
          <p:spPr>
            <a:xfrm>
              <a:off x="2340000" y="2286000"/>
              <a:ext cx="4057560" cy="471600"/>
            </a:xfrm>
            <a:prstGeom prst="rect">
              <a:avLst/>
            </a:pr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13 CuadroTexto"/>
            <p:cNvSpPr/>
            <p:nvPr/>
          </p:nvSpPr>
          <p:spPr>
            <a:xfrm>
              <a:off x="2340000" y="2357280"/>
              <a:ext cx="405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Social software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14 Flecha derecha"/>
          <p:cNvSpPr/>
          <p:nvPr/>
        </p:nvSpPr>
        <p:spPr>
          <a:xfrm rot="5400000">
            <a:off x="4102560" y="2902680"/>
            <a:ext cx="57132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Dragon with Castle Ilustraciones vectoriales sin derechos de autor"/>
          <p:cNvPicPr/>
          <p:nvPr/>
        </p:nvPicPr>
        <p:blipFill>
          <a:blip r:embed="rId1"/>
          <a:stretch/>
        </p:blipFill>
        <p:spPr>
          <a:xfrm>
            <a:off x="611280" y="1638360"/>
            <a:ext cx="135720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6588000" y="1638360"/>
            <a:ext cx="2017800" cy="1498680"/>
          </a:xfrm>
          <a:prstGeom prst="rect">
            <a:avLst/>
          </a:prstGeom>
          <a:ln w="0">
            <a:noFill/>
          </a:ln>
        </p:spPr>
      </p:pic>
      <p:sp>
        <p:nvSpPr>
          <p:cNvPr id="231" name="1 Título"/>
          <p:cNvSpPr/>
          <p:nvPr/>
        </p:nvSpPr>
        <p:spPr>
          <a:xfrm>
            <a:off x="1258920" y="3365640"/>
            <a:ext cx="631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EB 2.0 STORYTE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14400" y="269640"/>
            <a:ext cx="63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WEB 2.0 STORY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3411360" y="1916280"/>
            <a:ext cx="2097360" cy="2020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95280" y="3933360"/>
            <a:ext cx="82152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tforms for a new form of writing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hared writing spaces for authors separated by space and tim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multiple authors to co-design and co-edit a sto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to integrate various types of med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able to use a multilinear sty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11 CuadroTexto"/>
          <p:cNvSpPr/>
          <p:nvPr/>
        </p:nvSpPr>
        <p:spPr>
          <a:xfrm>
            <a:off x="3492360" y="145584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56760" y="1785960"/>
            <a:ext cx="53672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from distant Spanish schools co-wrote a common story, through the VLW wiki, and illustrated it with pictures and vide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rural schools: CEIP Sant Serni and CEIP Rellin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nuary – April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ly sessions of 1-2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, with the coordination of their teacher, co-wrote the story according to what has been written by the other sch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1" descr=""/>
          <p:cNvPicPr/>
          <p:nvPr/>
        </p:nvPicPr>
        <p:blipFill>
          <a:blip r:embed="rId1"/>
          <a:stretch/>
        </p:blipFill>
        <p:spPr>
          <a:xfrm>
            <a:off x="5695920" y="1417680"/>
            <a:ext cx="2976480" cy="222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5" descr="http://lh5.ggpht.com/_YluJpdRw2Yo/S5kbidlKJhI/AAAAAAAAAJU/fRIJF0teg2U/s640/DSC09273.JPG"/>
          <p:cNvPicPr/>
          <p:nvPr/>
        </p:nvPicPr>
        <p:blipFill>
          <a:blip r:embed="rId2"/>
          <a:stretch/>
        </p:blipFill>
        <p:spPr>
          <a:xfrm>
            <a:off x="5715000" y="3786120"/>
            <a:ext cx="2952720" cy="221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56760" y="1285560"/>
            <a:ext cx="8286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7933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aborative writing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school wrote the first section of the story in the VLW Wiki platform. Moreover, they wrote three possible actions between which the hero would have to choos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ther participating school read the story through a projector. Afterwards, students were assigned in groups and wrote the continuation of one of the actions set by the first schoo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ase B repeated until each path arrived to the predefined objective of the story (i.e. the end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http://lh5.ggpht.com/_YluJpdRw2Yo/S5kbecOO8-I/AAAAAAAAAIo/xrxNKTxDoFM/s640/DSC09262.JPG"/>
          <p:cNvPicPr/>
          <p:nvPr/>
        </p:nvPicPr>
        <p:blipFill>
          <a:blip r:embed="rId1"/>
          <a:stretch/>
        </p:blipFill>
        <p:spPr>
          <a:xfrm>
            <a:off x="5929200" y="4071960"/>
            <a:ext cx="257184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6" name="Picture 4" descr="http://lh4.ggpht.com/_YluJpdRw2Yo/S5kbc58r7HI/AAAAAAAAAIc/E1L1p7tb0NY/s640/DSC09259.JPG"/>
          <p:cNvPicPr/>
          <p:nvPr/>
        </p:nvPicPr>
        <p:blipFill>
          <a:blip r:embed="rId2"/>
          <a:stretch/>
        </p:blipFill>
        <p:spPr>
          <a:xfrm>
            <a:off x="3214800" y="4071960"/>
            <a:ext cx="257148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7" name="Imagen 7" descr=""/>
          <p:cNvPicPr/>
          <p:nvPr/>
        </p:nvPicPr>
        <p:blipFill>
          <a:blip r:embed="rId3"/>
          <a:stretch/>
        </p:blipFill>
        <p:spPr>
          <a:xfrm>
            <a:off x="357120" y="4071960"/>
            <a:ext cx="26431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14400" y="53640"/>
            <a:ext cx="429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f6228"/>
                </a:solidFill>
                <a:latin typeface="Calibri"/>
              </a:rPr>
              <a:t>IMPLEMENTATION OF THE SCENAR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28:17Z</dcterms:created>
  <dc:creator>Feature Learning</dc:creator>
  <dc:description/>
  <dc:language>en-US</dc:language>
  <cp:lastModifiedBy>Administrator</cp:lastModifiedBy>
  <dcterms:modified xsi:type="dcterms:W3CDTF">2010-11-14T08:05:55Z</dcterms:modified>
  <cp:revision>261</cp:revision>
  <dc:subject/>
  <dc:title>PROYECTO RURALeNTER</dc:title>
</cp:coreProperties>
</file>