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922F-2F25-404A-9BEC-F7320DC7AE8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2AD5-4E18-4BC8-9C58-7BC0C487CB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807-8683-4F5F-B4BF-8DD63F26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180-7340-4035-AD2E-47BE283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5A3-5C34-4F27-99F1-4749A8A7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736-B8AE-4001-B4FB-E4E47A06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B8C7-BDBD-4B92-9982-359065F2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23F1-6B55-4DC1-8604-77BFF803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DE8F-5B4C-4655-8A3E-D9D228D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2D64-65DD-4309-8356-150D475C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7C76-DBE2-416E-BEA8-ACC4AB7C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44EF-6691-4645-AC59-FEEBD21D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E31C-9266-4D8F-8084-941D7234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60B-B834-4703-97C9-B834248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5CD8-D865-4262-BB58-4708E52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DCBE-59E7-4AA5-A4B2-CB7DC6C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39AE-75A5-4F74-8409-65DB491B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C2C1-DD15-40C4-B54C-8E9C396B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4F60-96F0-4F44-97A5-2E096958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CD66-F718-4343-A997-4992BD85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FE30-296A-4F51-9379-058B2CAF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4199-8F74-4C4B-9834-8814F4AE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A3B1-9FA7-4169-9CB7-1BFF8495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FB81-FD22-4593-A9FE-8B3125CB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B11-9B5E-4F8E-86A3-8AD67A63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9634-D2B6-4B9A-96B1-992448AB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81A1-B1AF-4B3E-B701-0AF8EC92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7BE6-EFE2-4BB6-B96F-17DF978C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9DE1-61AA-436F-A246-34C80085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7C0C-1A19-4C52-B271-D7D323F8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A208-F7F5-4886-B292-EB6DE245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99A2-33BF-43DF-A794-62142A86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73D1-C240-431C-AC8F-E4ACA082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A2793-68FF-49EF-B4A2-5E44AB46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197D8-4266-4F6C-96C0-73BFE5E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302-1AA2-4143-B8C2-BD7B3116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0801D-982C-458F-B93A-C298CC2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35B1C-AA1F-4B76-B9BE-DCB13B47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3AD1-DA8B-4A82-870B-768D29D8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A934-B4D1-4876-9FC2-AD8D95A9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AF8A-7CFD-4193-872C-7F098A2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1F86-FF8F-415B-87CF-0CECEFC8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AAC5-BD35-40B1-A9C5-188168CA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7585-3C56-493C-BC20-F82F4FED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21B4-A2BD-4EB0-BA63-919BC649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50D-9E43-4857-B0F9-7FFAC0E2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661-AEF5-4737-A1F5-8D05F9AF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F0A-6D87-410A-979F-F76717EF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21F-FB92-440B-B26E-68139D4A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DD2-0F43-4227-B2EC-FCCC533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C23-E5E9-4195-A80F-CF23F1B23FE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090C-7BB4-4612-A610-355EFC4C004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6 Rectángulo"/>
          <p:cNvSpPr/>
          <p:nvPr/>
        </p:nvSpPr>
        <p:spPr>
          <a:xfrm>
            <a:off x="905040" y="2565360"/>
            <a:ext cx="7315200" cy="1279440"/>
          </a:xfrm>
          <a:prstGeom prst="rect">
            <a:avLst/>
          </a:prstGeom>
          <a:noFill/>
          <a:ln cap="rnd" w="64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 Rectángulo"/>
          <p:cNvSpPr/>
          <p:nvPr/>
        </p:nvSpPr>
        <p:spPr>
          <a:xfrm>
            <a:off x="914400" y="3965400"/>
            <a:ext cx="7315200" cy="685800"/>
          </a:xfrm>
          <a:prstGeom prst="rect">
            <a:avLst/>
          </a:prstGeom>
          <a:noFill/>
          <a:ln cap="rnd" w="64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905040" y="2565360"/>
            <a:ext cx="228600" cy="1279440"/>
          </a:xfrm>
          <a:prstGeom prst="rect">
            <a:avLst/>
          </a:prstGeom>
          <a:solidFill>
            <a:srgbClr val="4f6228"/>
          </a:solidFill>
          <a:ln cap="rnd" w="64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9 Rectángulo"/>
          <p:cNvSpPr/>
          <p:nvPr/>
        </p:nvSpPr>
        <p:spPr>
          <a:xfrm>
            <a:off x="914400" y="3965400"/>
            <a:ext cx="228600" cy="685800"/>
          </a:xfrm>
          <a:prstGeom prst="rect">
            <a:avLst/>
          </a:prstGeom>
          <a:solidFill>
            <a:srgbClr val="996600"/>
          </a:solidFill>
          <a:ln cap="rnd" w="64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F041-FC61-4C97-B200-D54DCFF575D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0" y="1214280"/>
            <a:ext cx="5143680" cy="0"/>
          </a:xfrm>
          <a:prstGeom prst="line">
            <a:avLst/>
          </a:prstGeom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5929200" y="6215040"/>
            <a:ext cx="1214640" cy="571680"/>
          </a:xfrm>
          <a:prstGeom prst="rect">
            <a:avLst/>
          </a:prstGeom>
          <a:ln w="0">
            <a:noFill/>
          </a:ln>
        </p:spPr>
      </p:pic>
      <p:sp>
        <p:nvSpPr>
          <p:cNvPr id="129" name="9 Conector recto"/>
          <p:cNvSpPr/>
          <p:nvPr/>
        </p:nvSpPr>
        <p:spPr>
          <a:xfrm>
            <a:off x="428760" y="6072120"/>
            <a:ext cx="8286480" cy="0"/>
          </a:xfrm>
          <a:prstGeom prst="line">
            <a:avLst/>
          </a:prstGeom>
          <a:ln w="1260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sorurall.eu/final_logo.png"/>
          <p:cNvPicPr/>
          <p:nvPr/>
        </p:nvPicPr>
        <p:blipFill>
          <a:blip r:embed="rId3"/>
          <a:stretch/>
        </p:blipFill>
        <p:spPr>
          <a:xfrm>
            <a:off x="7291440" y="6157800"/>
            <a:ext cx="1495440" cy="628920"/>
          </a:xfrm>
          <a:prstGeom prst="rect">
            <a:avLst/>
          </a:prstGeom>
          <a:ln w="0">
            <a:noFill/>
          </a:ln>
        </p:spPr>
      </p:pic>
      <p:sp>
        <p:nvSpPr>
          <p:cNvPr id="131" name="11 CuadroTexto"/>
          <p:cNvSpPr/>
          <p:nvPr/>
        </p:nvSpPr>
        <p:spPr>
          <a:xfrm>
            <a:off x="357120" y="614376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LL2010 conference – Patras, November 4-5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57BD-C913-4318-9542-8D8CE99E359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2492280"/>
            <a:ext cx="6985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Collaborative storytelling with Wiki: </a:t>
            </a:r>
            <a:br>
              <a:rPr sz="3200"/>
            </a:b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a case study in Spanish rural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6" descr="D:\Foxy\SoRurall\WP7 - Dissemination\Logo LLP.png"/>
          <p:cNvPicPr/>
          <p:nvPr/>
        </p:nvPicPr>
        <p:blipFill>
          <a:blip r:embed="rId1"/>
          <a:stretch/>
        </p:blipFill>
        <p:spPr>
          <a:xfrm>
            <a:off x="214200" y="214200"/>
            <a:ext cx="2224080" cy="90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www.ddgi.cat/iec/CCIIAAPP/logos/UB_bas.jpg"/>
          <p:cNvPicPr/>
          <p:nvPr/>
        </p:nvPicPr>
        <p:blipFill>
          <a:blip r:embed="rId2"/>
          <a:stretch/>
        </p:blipFill>
        <p:spPr>
          <a:xfrm>
            <a:off x="6143760" y="214200"/>
            <a:ext cx="285732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7 CuadroTexto"/>
          <p:cNvSpPr/>
          <p:nvPr/>
        </p:nvSpPr>
        <p:spPr>
          <a:xfrm>
            <a:off x="1160640" y="4078440"/>
            <a:ext cx="69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. Frossard, A. Trifonova, X. Geis, M. Moyà I Altisent, M. Baraj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www.sorurall.eu/final_logo.png"/>
          <p:cNvPicPr/>
          <p:nvPr/>
        </p:nvPicPr>
        <p:blipFill>
          <a:blip r:embed="rId3"/>
          <a:stretch/>
        </p:blipFill>
        <p:spPr>
          <a:xfrm>
            <a:off x="3276720" y="189000"/>
            <a:ext cx="2208240" cy="928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thaleia.westgate.gr/sall2010/images/sorurall_conf_banner.jpg"/>
          <p:cNvPicPr/>
          <p:nvPr/>
        </p:nvPicPr>
        <p:blipFill>
          <a:blip r:embed="rId4"/>
          <a:stretch/>
        </p:blipFill>
        <p:spPr>
          <a:xfrm>
            <a:off x="0" y="5238720"/>
            <a:ext cx="9144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56760" y="142848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dventures of Laia and Oscar”: A consistent multi-ending nar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 Wiki pages, including 14 possible en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rcRect l="7718" t="13313" r="23829" b="40675"/>
          <a:stretch/>
        </p:blipFill>
        <p:spPr>
          <a:xfrm>
            <a:off x="3635280" y="2795760"/>
            <a:ext cx="5329440" cy="2865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IMPLEMENTATION OF THE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Imagen 2" descr=""/>
          <p:cNvPicPr/>
          <p:nvPr/>
        </p:nvPicPr>
        <p:blipFill>
          <a:blip r:embed="rId2"/>
          <a:srcRect l="14064" t="7323" r="31125" b="25294"/>
          <a:stretch/>
        </p:blipFill>
        <p:spPr>
          <a:xfrm>
            <a:off x="268200" y="2708280"/>
            <a:ext cx="315144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7120" y="2997000"/>
            <a:ext cx="8391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nk to a video showing a collaborative writing session in Prats sch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aisy.cti.gr/sorurall/drupal/node/2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14760" y="142560"/>
            <a:ext cx="60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LLABORATIVE STORYTELLING THROUGH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EVALUATION OF THE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56760" y="1557360"/>
            <a:ext cx="821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servation sessions in the schools and interviews with the tea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Calibri"/>
              </a:rPr>
              <a:t>Familiarization with 2.0 technologi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2.0 tools (wiki, Youtube) in learning settings / discover new ways of their possible utilizations (e.g. achievement of a common pro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Calibri"/>
              </a:rPr>
              <a:t>Collaboration skil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adapted their discourse, language and narrative to the other school’s stud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Calibri"/>
              </a:rPr>
              <a:t>Language learning and narrative skil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nish, reading, writing and imagin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Calibri"/>
              </a:rPr>
              <a:t>Motivatio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’s awareness of the fact that the story would be read by external aud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8440" y="2072880"/>
            <a:ext cx="821556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enario has enabled to match the main needs and interests of rural sch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enabled to develop innovative activities with creative content, in which schools collaborated to reach common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0 technologies, adapted to specific settings, enable to teach / learn content in a contextualized w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2 Marcador de contenido"/>
          <p:cNvSpPr/>
          <p:nvPr/>
        </p:nvSpPr>
        <p:spPr>
          <a:xfrm>
            <a:off x="324000" y="4449600"/>
            <a:ext cx="82152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6228"/>
                </a:solidFill>
                <a:latin typeface="Calibri"/>
              </a:rPr>
              <a:t>A positive approach for integrating innovative tools in learning activities adapted to the specific characteristics of Spanish rural schools, thus contributing to including rural education within the actual Information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14760" y="35676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f6228"/>
                </a:solidFill>
                <a:latin typeface="Calibri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Object 6"/>
          <p:cNvGraphicFramePr/>
          <p:nvPr/>
        </p:nvGraphicFramePr>
        <p:xfrm>
          <a:off x="468360" y="1430280"/>
          <a:ext cx="8207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30280"/>
                    <a:ext cx="8207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6 CuadroTexto"/>
          <p:cNvSpPr/>
          <p:nvPr/>
        </p:nvSpPr>
        <p:spPr>
          <a:xfrm>
            <a:off x="500040" y="3676680"/>
            <a:ext cx="500076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www.futurelearning.or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ario Barajas: mbarajas@ub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rédérique Frossard: frederique.frossard@ub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nna Trifonova: trifonova@ub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Xavi Geis: xgeis@xtec.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iquel Moyà i Altisent: mmoya@xtec.c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sorurall.eu/final_logo.png"/>
          <p:cNvPicPr/>
          <p:nvPr/>
        </p:nvPicPr>
        <p:blipFill>
          <a:blip r:embed="rId3"/>
          <a:stretch/>
        </p:blipFill>
        <p:spPr>
          <a:xfrm>
            <a:off x="6786720" y="3708360"/>
            <a:ext cx="1904760" cy="800280"/>
          </a:xfrm>
          <a:prstGeom prst="rect">
            <a:avLst/>
          </a:prstGeom>
          <a:ln w="0">
            <a:noFill/>
          </a:ln>
        </p:spPr>
      </p:pic>
      <p:sp>
        <p:nvSpPr>
          <p:cNvPr id="274" name="8 Rectángulo"/>
          <p:cNvSpPr/>
          <p:nvPr/>
        </p:nvSpPr>
        <p:spPr>
          <a:xfrm>
            <a:off x="357120" y="5784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s research was partially funded by the European Commi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0 CuadroTexto"/>
          <p:cNvSpPr/>
          <p:nvPr/>
        </p:nvSpPr>
        <p:spPr>
          <a:xfrm>
            <a:off x="6786720" y="44290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www.sorurall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6760" y="1928520"/>
            <a:ext cx="8215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eeds of Spanish rural scho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Web 2.0 Storytelling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Implementation of the scenari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Evaluation of the scenari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86120" y="1856880"/>
            <a:ext cx="66578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ural schools / teach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ysical distance and isolation from other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iculties in sharing projects and co-create knowledge with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8" descr="http://futurelearning.org/ruralwings/images/rw-pictures/escuela-rural2.jpg"/>
          <p:cNvPicPr/>
          <p:nvPr/>
        </p:nvPicPr>
        <p:blipFill>
          <a:blip r:embed="rId1"/>
          <a:stretch/>
        </p:blipFill>
        <p:spPr>
          <a:xfrm>
            <a:off x="571680" y="2071800"/>
            <a:ext cx="1333440" cy="1123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2016360" cy="1498680"/>
          </a:xfrm>
          <a:prstGeom prst="rect">
            <a:avLst/>
          </a:prstGeom>
          <a:ln w="0">
            <a:noFill/>
          </a:ln>
        </p:spPr>
      </p:pic>
      <p:sp>
        <p:nvSpPr>
          <p:cNvPr id="192" name="10 CuadroTexto"/>
          <p:cNvSpPr/>
          <p:nvPr/>
        </p:nvSpPr>
        <p:spPr>
          <a:xfrm>
            <a:off x="2462040" y="4795920"/>
            <a:ext cx="7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2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1 CuadroTexto"/>
          <p:cNvSpPr/>
          <p:nvPr/>
        </p:nvSpPr>
        <p:spPr>
          <a:xfrm>
            <a:off x="4176720" y="47242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w opportunities for bridging the gap between rural / urban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12 Flecha derecha"/>
          <p:cNvSpPr/>
          <p:nvPr/>
        </p:nvSpPr>
        <p:spPr>
          <a:xfrm>
            <a:off x="3247920" y="4867200"/>
            <a:ext cx="85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8760" y="1341000"/>
            <a:ext cx="82468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SoRuraLL project in Sp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 multigrade schools, with students aged between 3 and 12, have been conducting common educational activities enhanced by social networking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rcRect l="0" t="8288" r="0" b="10897"/>
          <a:stretch/>
        </p:blipFill>
        <p:spPr>
          <a:xfrm>
            <a:off x="2916360" y="2563920"/>
            <a:ext cx="4011480" cy="2665440"/>
          </a:xfrm>
          <a:prstGeom prst="rect">
            <a:avLst/>
          </a:prstGeom>
          <a:ln w="0">
            <a:noFill/>
          </a:ln>
        </p:spPr>
      </p:pic>
      <p:sp>
        <p:nvSpPr>
          <p:cNvPr id="198" name="2 Marcador de contenido"/>
          <p:cNvSpPr/>
          <p:nvPr/>
        </p:nvSpPr>
        <p:spPr>
          <a:xfrm>
            <a:off x="144360" y="5373720"/>
            <a:ext cx="882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ong other scenarios, schools co-designed a </a:t>
            </a:r>
            <a:r>
              <a:rPr b="1" lang="en-US" sz="1800" spc="-1" strike="noStrike">
                <a:solidFill>
                  <a:srgbClr val="4f6228"/>
                </a:solidFill>
                <a:latin typeface="Calibri"/>
              </a:rPr>
              <a:t>hypermedia sto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f the “choose your own adventure” type, by using the </a:t>
            </a:r>
            <a:r>
              <a:rPr b="1" lang="en-US" sz="1800" spc="-1" strike="noStrike">
                <a:solidFill>
                  <a:srgbClr val="4f6228"/>
                </a:solidFill>
                <a:latin typeface="Calibri"/>
              </a:rPr>
              <a:t>Wik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pplication of the SoRuraLL Virtual Learning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rcRect l="20317" t="38091" r="48940" b="21875"/>
          <a:stretch/>
        </p:blipFill>
        <p:spPr>
          <a:xfrm>
            <a:off x="6948360" y="2637000"/>
            <a:ext cx="1871640" cy="136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0" name="Picture 11" descr=""/>
          <p:cNvPicPr/>
          <p:nvPr/>
        </p:nvPicPr>
        <p:blipFill>
          <a:blip r:embed="rId3"/>
          <a:stretch/>
        </p:blipFill>
        <p:spPr>
          <a:xfrm>
            <a:off x="6588000" y="4005360"/>
            <a:ext cx="1548000" cy="11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2" descr="http://lh5.ggpht.com/_YluJpdRw2Yo/S5kbecOO8-I/AAAAAAAAAIo/xrxNKTxDoFM/s640/DSC09262.JPG"/>
          <p:cNvPicPr/>
          <p:nvPr/>
        </p:nvPicPr>
        <p:blipFill>
          <a:blip r:embed="rId4"/>
          <a:stretch/>
        </p:blipFill>
        <p:spPr>
          <a:xfrm>
            <a:off x="1855800" y="3859200"/>
            <a:ext cx="1636560" cy="122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2" name="Picture 1" descr=""/>
          <p:cNvPicPr/>
          <p:nvPr/>
        </p:nvPicPr>
        <p:blipFill>
          <a:blip r:embed="rId5"/>
          <a:srcRect l="26011" t="30517" r="43550" b="29503"/>
          <a:stretch/>
        </p:blipFill>
        <p:spPr>
          <a:xfrm>
            <a:off x="684360" y="2492280"/>
            <a:ext cx="1912680" cy="141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559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NEEDS OF SPANISH RURAL SCH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26 Grupo"/>
          <p:cNvGrpSpPr/>
          <p:nvPr/>
        </p:nvGrpSpPr>
        <p:grpSpPr>
          <a:xfrm>
            <a:off x="4140360" y="2011320"/>
            <a:ext cx="4608360" cy="703800"/>
            <a:chOff x="4140360" y="2011320"/>
            <a:chExt cx="4608360" cy="703800"/>
          </a:xfrm>
        </p:grpSpPr>
        <p:sp>
          <p:nvSpPr>
            <p:cNvPr id="205" name="47 CuadroTexto"/>
            <p:cNvSpPr/>
            <p:nvPr/>
          </p:nvSpPr>
          <p:spPr>
            <a:xfrm>
              <a:off x="5040720" y="2011320"/>
              <a:ext cx="37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6228"/>
                  </a:solidFill>
                  <a:latin typeface="Calibri"/>
                </a:rPr>
                <a:t>COLLABORATIVE STORYTELLING WITH WIK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24 Flecha derecha"/>
            <p:cNvSpPr/>
            <p:nvPr/>
          </p:nvSpPr>
          <p:spPr>
            <a:xfrm>
              <a:off x="4140360" y="2132640"/>
              <a:ext cx="857160" cy="4287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d9d9d9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46 Grupo"/>
          <p:cNvGrpSpPr/>
          <p:nvPr/>
        </p:nvGrpSpPr>
        <p:grpSpPr>
          <a:xfrm>
            <a:off x="4572000" y="3017880"/>
            <a:ext cx="4321080" cy="2065680"/>
            <a:chOff x="4572000" y="3017880"/>
            <a:chExt cx="4321080" cy="2065680"/>
          </a:xfrm>
        </p:grpSpPr>
        <p:sp>
          <p:nvSpPr>
            <p:cNvPr id="208" name="31 CuadroTexto"/>
            <p:cNvSpPr/>
            <p:nvPr/>
          </p:nvSpPr>
          <p:spPr>
            <a:xfrm>
              <a:off x="4572000" y="301788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eaningful context to share educational pro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27 CuadroTexto"/>
            <p:cNvSpPr/>
            <p:nvPr/>
          </p:nvSpPr>
          <p:spPr>
            <a:xfrm>
              <a:off x="4572000" y="344988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iscover a new tool for pedagogical purpo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29 CuadroTexto"/>
            <p:cNvSpPr/>
            <p:nvPr/>
          </p:nvSpPr>
          <p:spPr>
            <a:xfrm>
              <a:off x="4572000" y="388188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pportunity to practice Span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32 CuadroTexto"/>
            <p:cNvSpPr/>
            <p:nvPr/>
          </p:nvSpPr>
          <p:spPr>
            <a:xfrm>
              <a:off x="4572000" y="431424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ublic story (on the SoRuraLL VL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40 CuadroTexto"/>
            <p:cNvSpPr/>
            <p:nvPr/>
          </p:nvSpPr>
          <p:spPr>
            <a:xfrm>
              <a:off x="4572000" y="474624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ifferent schools interact to achieve specific go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42 Grupo"/>
          <p:cNvGrpSpPr/>
          <p:nvPr/>
        </p:nvGrpSpPr>
        <p:grpSpPr>
          <a:xfrm>
            <a:off x="179280" y="2011320"/>
            <a:ext cx="4392720" cy="3072240"/>
            <a:chOff x="179280" y="2011320"/>
            <a:chExt cx="4392720" cy="3072240"/>
          </a:xfrm>
        </p:grpSpPr>
        <p:sp>
          <p:nvSpPr>
            <p:cNvPr id="214" name="8 CuadroTexto"/>
            <p:cNvSpPr/>
            <p:nvPr/>
          </p:nvSpPr>
          <p:spPr>
            <a:xfrm>
              <a:off x="179280" y="3018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ommunication with other rural comm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61 CuadroTexto"/>
            <p:cNvSpPr/>
            <p:nvPr/>
          </p:nvSpPr>
          <p:spPr>
            <a:xfrm>
              <a:off x="647640" y="2011320"/>
              <a:ext cx="32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6228"/>
                  </a:solidFill>
                  <a:latin typeface="Calibri"/>
                </a:rPr>
                <a:t>INTERESTS AND NEEDS OF SPANISH RURAL SCH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28 CuadroTexto"/>
            <p:cNvSpPr/>
            <p:nvPr/>
          </p:nvSpPr>
          <p:spPr>
            <a:xfrm>
              <a:off x="179280" y="3450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upport and guidance to the use of ICT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30 CuadroTexto"/>
            <p:cNvSpPr/>
            <p:nvPr/>
          </p:nvSpPr>
          <p:spPr>
            <a:xfrm>
              <a:off x="179280" y="3882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anguage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35 CuadroTexto"/>
            <p:cNvSpPr/>
            <p:nvPr/>
          </p:nvSpPr>
          <p:spPr>
            <a:xfrm>
              <a:off x="179280" y="4314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Better visibility of rural sch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41 CuadroTexto"/>
            <p:cNvSpPr/>
            <p:nvPr/>
          </p:nvSpPr>
          <p:spPr>
            <a:xfrm>
              <a:off x="179280" y="4746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ommon goal-driven educational 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63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WEB 2.0 STORYT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520" y="4508640"/>
            <a:ext cx="821520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story has a beginning, a middle, and a cleanly wrapped-up ending. (…). Today, with digital networks and social media, this pattern is changing. Stories now are open-ended, branching, hyperlinked, cross-media, participatory, exploratory, and unpredictable”. (Alexander and Levine, 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14 Grupo"/>
          <p:cNvGrpSpPr/>
          <p:nvPr/>
        </p:nvGrpSpPr>
        <p:grpSpPr>
          <a:xfrm>
            <a:off x="2340000" y="1643040"/>
            <a:ext cx="4057560" cy="471600"/>
            <a:chOff x="2340000" y="1643040"/>
            <a:chExt cx="4057560" cy="471600"/>
          </a:xfrm>
        </p:grpSpPr>
        <p:sp>
          <p:nvSpPr>
            <p:cNvPr id="223" name="31 Rectángulo"/>
            <p:cNvSpPr/>
            <p:nvPr/>
          </p:nvSpPr>
          <p:spPr>
            <a:xfrm>
              <a:off x="2340000" y="1643040"/>
              <a:ext cx="4057560" cy="4716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10 CuadroTexto"/>
            <p:cNvSpPr/>
            <p:nvPr/>
          </p:nvSpPr>
          <p:spPr>
            <a:xfrm>
              <a:off x="2340000" y="1714320"/>
              <a:ext cx="405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Storyte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15 Grupo"/>
          <p:cNvGrpSpPr/>
          <p:nvPr/>
        </p:nvGrpSpPr>
        <p:grpSpPr>
          <a:xfrm>
            <a:off x="2340000" y="2286000"/>
            <a:ext cx="4057560" cy="471600"/>
            <a:chOff x="2340000" y="2286000"/>
            <a:chExt cx="4057560" cy="471600"/>
          </a:xfrm>
        </p:grpSpPr>
        <p:sp>
          <p:nvSpPr>
            <p:cNvPr id="226" name="31 Rectángulo"/>
            <p:cNvSpPr/>
            <p:nvPr/>
          </p:nvSpPr>
          <p:spPr>
            <a:xfrm>
              <a:off x="2340000" y="2286000"/>
              <a:ext cx="4057560" cy="471600"/>
            </a:xfrm>
            <a:prstGeom prst="rect">
              <a:avLst/>
            </a:pr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13 CuadroTexto"/>
            <p:cNvSpPr/>
            <p:nvPr/>
          </p:nvSpPr>
          <p:spPr>
            <a:xfrm>
              <a:off x="2340000" y="2357280"/>
              <a:ext cx="405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Social software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14 Flecha derecha"/>
          <p:cNvSpPr/>
          <p:nvPr/>
        </p:nvSpPr>
        <p:spPr>
          <a:xfrm rot="5400000">
            <a:off x="4102560" y="2902680"/>
            <a:ext cx="57132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Dragon with Castle Ilustraciones vectoriales sin derechos de autor"/>
          <p:cNvPicPr/>
          <p:nvPr/>
        </p:nvPicPr>
        <p:blipFill>
          <a:blip r:embed="rId1"/>
          <a:stretch/>
        </p:blipFill>
        <p:spPr>
          <a:xfrm>
            <a:off x="611280" y="1638360"/>
            <a:ext cx="1357200" cy="1511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6588000" y="1638360"/>
            <a:ext cx="2017800" cy="1498680"/>
          </a:xfrm>
          <a:prstGeom prst="rect">
            <a:avLst/>
          </a:prstGeom>
          <a:ln w="0">
            <a:noFill/>
          </a:ln>
        </p:spPr>
      </p:pic>
      <p:sp>
        <p:nvSpPr>
          <p:cNvPr id="231" name="1 Título"/>
          <p:cNvSpPr/>
          <p:nvPr/>
        </p:nvSpPr>
        <p:spPr>
          <a:xfrm>
            <a:off x="1258920" y="3365640"/>
            <a:ext cx="631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EB 2.0 STORYTE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63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WEB 2.0 STORYT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3411360" y="1916280"/>
            <a:ext cx="2097360" cy="2020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95280" y="3933360"/>
            <a:ext cx="82152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latforms for a new form of writing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hared writing spaces for authors separated by space and tim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able multiple authors to co-design and co-edit a sto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able to integrate various types of med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able to use a multilinear sty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11 CuadroTexto"/>
          <p:cNvSpPr/>
          <p:nvPr/>
        </p:nvSpPr>
        <p:spPr>
          <a:xfrm>
            <a:off x="3492360" y="145584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56760" y="1785960"/>
            <a:ext cx="5367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 from distant Spanish schools co-wrote a common story, through the VLW wiki, and illustrated it with pictures and vide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rural schools: CEIP Sant Serni and CEIP Rellin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nuary – April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ekly sessions of 1-2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, with the coordination of their teacher, co-wrote the story according to what has been written by the other 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n 1" descr=""/>
          <p:cNvPicPr/>
          <p:nvPr/>
        </p:nvPicPr>
        <p:blipFill>
          <a:blip r:embed="rId1"/>
          <a:stretch/>
        </p:blipFill>
        <p:spPr>
          <a:xfrm>
            <a:off x="5695920" y="1417680"/>
            <a:ext cx="2976480" cy="222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1" name="Picture 5" descr="http://lh5.ggpht.com/_YluJpdRw2Yo/S5kbidlKJhI/AAAAAAAAAJU/fRIJF0teg2U/s640/DSC09273.JPG"/>
          <p:cNvPicPr/>
          <p:nvPr/>
        </p:nvPicPr>
        <p:blipFill>
          <a:blip r:embed="rId2"/>
          <a:stretch/>
        </p:blipFill>
        <p:spPr>
          <a:xfrm>
            <a:off x="5715000" y="3786120"/>
            <a:ext cx="295272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IMPLEMENTATION OF THE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56760" y="1285560"/>
            <a:ext cx="8286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aborative writing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school wrote the first section of the story in the VLW Wiki platform. Moreover, they wrote three possible actions between which the hero would have to choos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ther participating school read the story through a projector. Afterwards, students were assigned in groups and wrote the continuation of one of the actions set by the first sch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se B repeated until each path arrived to the predefined objective of the story (i.e. the end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://lh5.ggpht.com/_YluJpdRw2Yo/S5kbecOO8-I/AAAAAAAAAIo/xrxNKTxDoFM/s640/DSC09262.JPG"/>
          <p:cNvPicPr/>
          <p:nvPr/>
        </p:nvPicPr>
        <p:blipFill>
          <a:blip r:embed="rId1"/>
          <a:stretch/>
        </p:blipFill>
        <p:spPr>
          <a:xfrm>
            <a:off x="5929200" y="4071960"/>
            <a:ext cx="257184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6" name="Picture 4" descr="http://lh4.ggpht.com/_YluJpdRw2Yo/S5kbc58r7HI/AAAAAAAAAIc/E1L1p7tb0NY/s640/DSC09259.JPG"/>
          <p:cNvPicPr/>
          <p:nvPr/>
        </p:nvPicPr>
        <p:blipFill>
          <a:blip r:embed="rId2"/>
          <a:stretch/>
        </p:blipFill>
        <p:spPr>
          <a:xfrm>
            <a:off x="3214800" y="4071960"/>
            <a:ext cx="257148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7" name="Imagen 7" descr=""/>
          <p:cNvPicPr/>
          <p:nvPr/>
        </p:nvPicPr>
        <p:blipFill>
          <a:blip r:embed="rId3"/>
          <a:stretch/>
        </p:blipFill>
        <p:spPr>
          <a:xfrm>
            <a:off x="357120" y="4071960"/>
            <a:ext cx="264312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IMPLEMENTATION OF THE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2:28:17Z</dcterms:created>
  <dc:creator>Feature Learning</dc:creator>
  <dc:description/>
  <dc:language>en-US</dc:language>
  <cp:lastModifiedBy>Administrator</cp:lastModifiedBy>
  <dcterms:modified xsi:type="dcterms:W3CDTF">2010-11-14T08:05:55Z</dcterms:modified>
  <cp:revision>261</cp:revision>
  <dc:subject/>
  <dc:title>PROYECTO RURALeNTER</dc:title>
</cp:coreProperties>
</file>